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42E-145B-4722-ACE8-CF732D91D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B44-DF2C-4FB7-9B96-CC927B37E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812-2B09-40DE-BFA6-CC133A19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001-4776-41C9-9C46-1C501B0A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BE73C-F1E4-488D-8479-7D67BBEE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FC53-232F-4B26-874C-4988BFF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1CBA-5A42-4460-A4EC-4060C289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9DB2-9370-4B66-8A55-4C7677C7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66CF-F092-4D07-AE29-8EE3FE4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7FA6-B662-43FB-A045-527A3734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FB99-4574-4439-9896-4A15B3C8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333-CCB6-40B1-A091-4BD0D5F5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23ED-B12F-4556-9BD1-3299474C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0D6F-0FBE-4039-BFD1-8AD1D8EA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C56D-AC2B-4A79-9F8F-F7495E5E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42E5-E291-440A-8C1C-AC462F45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33BB-4420-405A-99F0-261893478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B4C-D207-4F74-8AE3-BBCA1B30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8A2-EAF5-4DC8-B8C9-A42FD1B3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B6A-D902-47A5-BEC6-567FE19C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839E-3BFB-4653-8CB7-24B20E8A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600E-3734-45BB-A89C-6370FD80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9A0-44F3-4E82-83CF-D67A5F5D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D137-DD84-4C86-9B26-DC9019C4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FF40-06B5-45C9-B16D-67003797DF7D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303-F1EA-4A2E-9A6B-9C357A6649A4}" type="slidenum">
              <a:rPr b="0" lang="ru-RU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втоматизация  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л]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в  начале   слов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м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914560" y="1981080"/>
            <a:ext cx="3314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ч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95480" y="1981080"/>
            <a:ext cx="5153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ун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74920" y="19810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ыжи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36720" y="1981080"/>
            <a:ext cx="546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сь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382840" y="1981080"/>
            <a:ext cx="437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ож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398680" y="1981080"/>
            <a:ext cx="4345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сточк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ндыш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38400" y="1981080"/>
            <a:ext cx="3067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пш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52760" y="1981080"/>
            <a:ext cx="58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лавина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219480" y="1981080"/>
            <a:ext cx="2705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7:57:02Z</dcterms:created>
  <dc:creator>Алексей</dc:creator>
  <dc:description/>
  <dc:language>en-US</dc:language>
  <cp:lastModifiedBy>тест</cp:lastModifiedBy>
  <dcterms:modified xsi:type="dcterms:W3CDTF">2012-02-29T08:43:51Z</dcterms:modified>
  <cp:revision>3</cp:revision>
  <dc:subject/>
  <dc:title>Автоматизация  [л]  в  начале слова</dc:title>
</cp:coreProperties>
</file>